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7E43F-0FA6-4659-83AA-2385617B3A84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0FED3-84B0-4585-A25A-EDE63F41DC2A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A7BF-3A74-4A7C-B3CD-E8A25EE728C9}" type="slidenum">
              <a:rPr b="0" lang="ar-JO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BE08-CA9A-48A9-9B65-C320DF970DC2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23FE-D761-4827-BFCD-3CF2A78BDC25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AE1D4-380C-4C87-8766-0B54EAF52CF8}" type="slidenum">
              <a:rPr b="0" lang="ar-S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5857-0EB1-425E-A66D-87D615791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745D-119A-4619-B5C2-95DE96422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8DD9-709B-4FE8-91D0-320FCBE88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6655-7585-4D2F-B4A2-67A6BE0F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9CD-2B79-4EB6-B773-FE2DFCE6F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7A7-53FC-473D-95A8-38BA5009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D789-7C97-4D85-8C81-42A29375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BB2-D41B-4586-9C8E-87D743CA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5C5B-F389-4FEF-8B96-604C8456E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428-38BC-4C25-9C0E-C4C78D00A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2912-6D4C-41C2-8D9C-3D92750A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90E4-F7BE-430A-8A1E-64B6F99A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03B-77D2-447F-9498-4681165D18D5}" type="datetime">
              <a:rPr b="0" lang="ar-JO" sz="1200" spc="-1" strike="noStrike">
                <a:solidFill>
                  <a:srgbClr val="898989"/>
                </a:solidFill>
                <a:latin typeface="Calibri"/>
              </a:rPr>
              <a:t>١٤٤٨/٠٢/١٤</a:t>
            </a:fld>
            <a:r>
              <a:rPr b="0" lang="ar-JO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9885516-639B-4942-952C-72CBC9575DA3}" type="datetime10">
              <a:rPr b="0" lang="ar-JO" sz="1200" spc="-1" strike="noStrike">
                <a:solidFill>
                  <a:srgbClr val="898989"/>
                </a:solidFill>
                <a:latin typeface="Calibri"/>
              </a:rPr>
              <a:t>08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J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2EB85-7F36-4089-B9D4-2A0F0B912AC7}" type="slidenum">
              <a:rPr b="0" lang="ar-J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i="1" lang="ar-JO" sz="1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580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by</a:t>
            </a:r>
            <a:br>
              <a:rPr sz="3000"/>
            </a:br>
            <a:r>
              <a:rPr b="0" lang="en-US" sz="2200" spc="-1" strike="noStrike">
                <a:solidFill>
                  <a:srgbClr val="002060"/>
                </a:solidFill>
                <a:latin typeface="Andalus"/>
                <a:ea typeface="Andalus"/>
              </a:rPr>
              <a:t>Dr. Jamal Abu Saif</a:t>
            </a:r>
            <a:br>
              <a:rPr sz="3300"/>
            </a:br>
            <a:br>
              <a:rPr sz="3000"/>
            </a:b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MD, Arab Board in Community Medicine</a:t>
            </a:r>
            <a:br>
              <a:rPr sz="2200"/>
            </a:b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Director of Technical Affairs and Studi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NHA Project Manage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High Health Council - HHC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2060"/>
                </a:solidFill>
                <a:latin typeface="Calibri"/>
              </a:rPr>
              <a:t>Amman-Jorda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142920" y="285840"/>
            <a:ext cx="885816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olicy Implementation: Experiences from Jordan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12" descr="شعار المجلس "/>
          <p:cNvPicPr/>
          <p:nvPr/>
        </p:nvPicPr>
        <p:blipFill>
          <a:blip r:embed="rId1"/>
          <a:stretch/>
        </p:blipFill>
        <p:spPr>
          <a:xfrm>
            <a:off x="3500280" y="42876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468360" y="642960"/>
            <a:ext cx="813600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Content Placeholder 3" descr=""/>
          <p:cNvPicPr/>
          <p:nvPr/>
        </p:nvPicPr>
        <p:blipFill>
          <a:blip r:embed="rId1"/>
          <a:stretch/>
        </p:blipFill>
        <p:spPr>
          <a:xfrm>
            <a:off x="281160" y="633240"/>
            <a:ext cx="8412120" cy="5499360"/>
          </a:xfrm>
          <a:prstGeom prst="rect">
            <a:avLst/>
          </a:prstGeom>
          <a:ln w="0">
            <a:noFill/>
          </a:ln>
        </p:spPr>
      </p:pic>
      <p:sp>
        <p:nvSpPr>
          <p:cNvPr id="70" name="Straight Connector 5"/>
          <p:cNvSpPr/>
          <p:nvPr/>
        </p:nvSpPr>
        <p:spPr>
          <a:xfrm flipH="1">
            <a:off x="3143160" y="5000040"/>
            <a:ext cx="1571760" cy="5713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traight Connector 7"/>
          <p:cNvSpPr/>
          <p:nvPr/>
        </p:nvSpPr>
        <p:spPr>
          <a:xfrm flipH="1">
            <a:off x="4071960" y="5285520"/>
            <a:ext cx="714240" cy="4287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214200" y="1500120"/>
          <a:ext cx="8715600" cy="4430880"/>
        </p:xfrm>
        <a:graphic>
          <a:graphicData uri="http://schemas.openxmlformats.org/drawingml/2006/table">
            <a:tbl>
              <a:tblPr/>
              <a:tblGrid>
                <a:gridCol w="1658880"/>
                <a:gridCol w="2374920"/>
                <a:gridCol w="2503800"/>
                <a:gridCol w="2178000"/>
              </a:tblGrid>
              <a:tr h="108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Coun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THE as  percentage  of GD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er capita health </a:t>
                      </a:r>
                      <a:r>
                        <a:rPr b="1" lang="ar-JO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exp (US </a:t>
                      </a:r>
                      <a:r>
                        <a:rPr b="1" lang="en-US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$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Public exp on health as percentage of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rd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ban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gyp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nis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3840" y="213840"/>
            <a:ext cx="864396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oss-country comparison of NHA indicators WHO regional Health Observatory, 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er capita health care spending (JD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Jordan NHA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hart 4" descr=""/>
          <p:cNvPicPr/>
          <p:nvPr/>
        </p:nvPicPr>
        <p:blipFill>
          <a:blip r:embed="rId1"/>
          <a:stretch/>
        </p:blipFill>
        <p:spPr>
          <a:xfrm>
            <a:off x="0" y="0"/>
            <a:ext cx="8862840" cy="66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572320" cy="7858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stribution of HH Exp. By public and priv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643040" y="1143000"/>
            <a:ext cx="5929200" cy="450072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785880" y="578628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ealth Insurance coverage rate is 72%  ( without duplicatio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Breakdown of OOP Health Expenditure in the Private Health Sector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hart 6" descr=""/>
          <p:cNvPicPr/>
          <p:nvPr/>
        </p:nvPicPr>
        <p:blipFill>
          <a:blip r:embed="rId1"/>
          <a:stretch/>
        </p:blipFill>
        <p:spPr>
          <a:xfrm>
            <a:off x="1779480" y="1494000"/>
            <a:ext cx="522468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rug expenditure as percent of GDP 2007-201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79012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 capita spending on drugs (JD) 2007-2011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Chart 3" descr=""/>
          <p:cNvPicPr/>
          <p:nvPr/>
        </p:nvPicPr>
        <p:blipFill>
          <a:blip r:embed="rId1"/>
          <a:stretch/>
        </p:blipFill>
        <p:spPr>
          <a:xfrm>
            <a:off x="0" y="0"/>
            <a:ext cx="8150400" cy="600408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428760" y="5929200"/>
            <a:ext cx="82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Drug Exp. US$ 605 Million 27% of THE (36% OF THE in 2001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8920" y="304920"/>
            <a:ext cx="8659800" cy="9633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ublic Expenditures by Function 2009-2011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52280" y="1357200"/>
          <a:ext cx="8763120" cy="5175360"/>
        </p:xfrm>
        <a:graphic>
          <a:graphicData uri="http://schemas.openxmlformats.org/drawingml/2006/table">
            <a:tbl>
              <a:tblPr/>
              <a:tblGrid>
                <a:gridCol w="1206720"/>
                <a:gridCol w="1116000"/>
                <a:gridCol w="1116000"/>
                <a:gridCol w="1117440"/>
                <a:gridCol w="1116000"/>
                <a:gridCol w="1149480"/>
                <a:gridCol w="1941480"/>
              </a:tblGrid>
              <a:tr h="351000"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سن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 الصحي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 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نفا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P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4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5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7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علاج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ital Car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5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رعاية الأولي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7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6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إدارة والخدمات المساند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min. &amp; Servic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تدريب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raining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Research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0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أخرى</a:t>
                      </a:r>
                      <a:r>
                        <a:rPr b="1" lang="ar-DZ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hers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360" rIns="9360" tIns="9360" bIns="0" anchor="b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0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4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70c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ct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b">
                      <a:noAutofit/>
                    </a:bodyPr>
                    <a:p>
                      <a:pPr algn="r" rtl="1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00"/>
                          </a:solidFill>
                          <a:latin typeface="Arial"/>
                          <a:cs typeface="Times New Roman"/>
                        </a:rPr>
                        <a:t>المجموع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   Public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Straight Connector 5"/>
          <p:cNvSpPr/>
          <p:nvPr/>
        </p:nvSpPr>
        <p:spPr>
          <a:xfrm flipV="1">
            <a:off x="7000920" y="1499760"/>
            <a:ext cx="1900080" cy="178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7315200" y="63244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6"/>
          <p:cNvSpPr/>
          <p:nvPr/>
        </p:nvSpPr>
        <p:spPr>
          <a:xfrm>
            <a:off x="3886200" y="654696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HA Technical Reports, HHC-Jorda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Rectangle 2"/>
          <p:cNvGrpSpPr/>
          <p:nvPr/>
        </p:nvGrpSpPr>
        <p:grpSpPr>
          <a:xfrm>
            <a:off x="396720" y="590400"/>
            <a:ext cx="7661520" cy="702000"/>
            <a:chOff x="396720" y="590400"/>
            <a:chExt cx="7661520" cy="702000"/>
          </a:xfrm>
        </p:grpSpPr>
        <p:pic>
          <p:nvPicPr>
            <p:cNvPr id="93" name="Rectangle 2" descr=""/>
            <p:cNvPicPr/>
            <p:nvPr/>
          </p:nvPicPr>
          <p:blipFill>
            <a:blip r:embed="rId1"/>
            <a:stretch/>
          </p:blipFill>
          <p:spPr>
            <a:xfrm>
              <a:off x="396720" y="590400"/>
              <a:ext cx="7661520" cy="70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57200" y="685800"/>
              <a:ext cx="754380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Uses of National Health Accounts (NHA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and planning t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derstanding health care financing &amp; expendi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 on resource allocation and allocative efficienc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acilitate evidence-based decision mak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99960" indent="-39996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insight when dealing with insurance secto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9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>
                <a:solidFill>
                  <a:srgbClr val="002060"/>
                </a:solidFill>
                <a:latin typeface="Calibri"/>
              </a:rPr>
              <a:t>Vi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distinguished healthcare system within an integrated health sector that achieves an outstanding status for the kingdom on the health world map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3682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Updating the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National 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Arial"/>
              </a:rPr>
              <a:t>Agenda of the health sector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2005 -2017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785880"/>
            <a:ext cx="82296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Prime Minister has formed four committee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Minister of planning is the head o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b050"/>
                </a:solidFill>
                <a:latin typeface="Calibri"/>
              </a:rPr>
              <a:t>ministerial committee of all sectors in the country</a:t>
            </a:r>
            <a:r>
              <a:rPr b="0" lang="en-US" sz="2700" spc="-1" strike="noStrike">
                <a:solidFill>
                  <a:srgbClr val="00b05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SG of the Ministry of Planning is the head of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70c0"/>
                </a:solidFill>
                <a:latin typeface="Calibri"/>
              </a:rPr>
              <a:t>sectoral coordination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HHC-SG is a m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head of </a:t>
            </a:r>
            <a:r>
              <a:rPr b="1" lang="en-US" sz="2700" spc="-1" strike="noStrike">
                <a:solidFill>
                  <a:srgbClr val="c00000"/>
                </a:solidFill>
                <a:latin typeface="Calibri"/>
              </a:rPr>
              <a:t>health sector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s the HHC-SG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en-US" sz="2700" spc="-1" strike="noStrike">
                <a:solidFill>
                  <a:srgbClr val="7030a0"/>
                </a:solidFill>
                <a:latin typeface="Calibri"/>
              </a:rPr>
              <a:t>technical committee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was formed at HHC and was reporting to HHC-SG  (NA : updated 2013-2022 after preparing  a progress report on the achievements of  the national agenda interventions ( up to 2012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HHC in collaboration with health and health related partners: MOH, RMS, JNC,UHs, HPC, JHA, JFDA, GDCD, …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928880" y="214200"/>
            <a:ext cx="528624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The Prime Minister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2000160" y="1571760"/>
            <a:ext cx="514368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Ministerial committee of all sectors in the count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2143080" y="2928960"/>
            <a:ext cx="492912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e SG of the Ministry of Plan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toral coordination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714760" y="4286160"/>
            <a:ext cx="3857400" cy="928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-S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ealth sector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43160" y="5643720"/>
            <a:ext cx="3000600" cy="928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HHC Technical Dir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echnical Committ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3" name="Straight Arrow Connector 12"/>
          <p:cNvCxnSpPr>
            <a:stCxn id="98" idx="2"/>
            <a:endCxn id="99" idx="0"/>
          </p:cNvCxnSpPr>
          <p:nvPr/>
        </p:nvCxnSpPr>
        <p:spPr>
          <a:xfrm flipH="1">
            <a:off x="4570200" y="1142640"/>
            <a:ext cx="360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4" name="Straight Arrow Connector 13"/>
          <p:cNvCxnSpPr/>
          <p:nvPr/>
        </p:nvCxnSpPr>
        <p:spPr>
          <a:xfrm flipH="1">
            <a:off x="4571640" y="249984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5" name="Straight Arrow Connector 14"/>
          <p:cNvCxnSpPr/>
          <p:nvPr/>
        </p:nvCxnSpPr>
        <p:spPr>
          <a:xfrm flipH="1">
            <a:off x="4570200" y="3857760"/>
            <a:ext cx="2160" cy="4291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6" name="Straight Arrow Connector 15"/>
          <p:cNvCxnSpPr/>
          <p:nvPr/>
        </p:nvCxnSpPr>
        <p:spPr>
          <a:xfrm flipH="1">
            <a:off x="4570200" y="5214600"/>
            <a:ext cx="2160" cy="429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333360"/>
            <a:ext cx="7554960" cy="1084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Main Health Secto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Goals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National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Agenda 202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care services in accordance with international standard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rengthening public-private partnership in order to create a  distinguished healthcare system based on integration, and to limit waste and dupli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mproving health system performan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ing health insurance coverage to all citize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 the prevalence of NC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auses of mortality in Jord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Chart 23624" descr=""/>
          <p:cNvPicPr/>
          <p:nvPr/>
        </p:nvPicPr>
        <p:blipFill>
          <a:blip r:embed="rId1"/>
          <a:stretch/>
        </p:blipFill>
        <p:spPr>
          <a:xfrm>
            <a:off x="428760" y="1071720"/>
            <a:ext cx="835812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785880" y="5572080"/>
            <a:ext cx="1214280" cy="368280"/>
          </a:xfrm>
          <a:prstGeom prst="rect">
            <a:avLst/>
          </a:pr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-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43080" y="5572080"/>
            <a:ext cx="1143000" cy="3682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6"/>
          <p:cNvSpPr/>
          <p:nvPr/>
        </p:nvSpPr>
        <p:spPr>
          <a:xfrm>
            <a:off x="3500280" y="5572080"/>
            <a:ext cx="1357560" cy="368280"/>
          </a:xfrm>
          <a:prstGeom prst="rect">
            <a:avLst/>
          </a:pr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ccid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7"/>
          <p:cNvSpPr/>
          <p:nvPr/>
        </p:nvSpPr>
        <p:spPr>
          <a:xfrm>
            <a:off x="5072040" y="5572080"/>
            <a:ext cx="1143000" cy="368280"/>
          </a:xfrm>
          <a:prstGeom prst="rect">
            <a:avLst/>
          </a:prstGeom>
          <a:gradFill rotWithShape="0">
            <a:gsLst>
              <a:gs pos="0">
                <a:srgbClr val="5d417e"/>
              </a:gs>
              <a:gs pos="100000">
                <a:srgbClr val="7b57a8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nfectio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6286680" y="5572080"/>
            <a:ext cx="128556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0040" y="380520"/>
            <a:ext cx="8215200" cy="7621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2920" y="1714320"/>
            <a:ext cx="8786880" cy="4609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Providing all people with access to needed health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Reviving primary health care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Controlling health car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000">
              <a:lnSpc>
                <a:spcPct val="150000"/>
              </a:lnSpc>
              <a:spcBef>
                <a:spcPts val="700"/>
              </a:spcBef>
              <a:buClr>
                <a:srgbClr val="320e04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320e04"/>
                </a:solidFill>
                <a:latin typeface="Calibri"/>
              </a:rPr>
              <a:t>Utilizing scarce resources efficient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6840" y="1714320"/>
            <a:ext cx="8458200" cy="441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quity in accessing affordable health car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the financial protection of the people and protecting households from facing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poverishm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atastrophic health expendit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ccessible and affordable servic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creasing households’ expenditures on heal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4251240" y="874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4200" y="571680"/>
            <a:ext cx="8501040" cy="9471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towards comprehensive Health Insur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785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ealth Ma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edical responsibility la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tional agenda 202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HSs (NHS, NHS for health communication, NHS for the elderly, RHAP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Resources for Health observat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rveys and studies such as: health insurance and OOP spending, availability of drugs at facility level and from HH perspectives,, and FFC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 HHC achieve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85480" y="1413000"/>
            <a:ext cx="86439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surveys, studies, technical reports and policy briefs, such a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ealth insurance coverage and health exp. surve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istribution of health care payments and FFC stud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H and facility survey on availability and pricing of drug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udy on corruption in health secto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HRH- Jordan’s coordination and facilitation policy 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olicy brief on retention of MOH physicians in remote underserved area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ational Health Accounts NHA annual technical repor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356760"/>
            <a:ext cx="8610480" cy="714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345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alysis of studying medical sciences and setting  recommendations to address market nee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ing the incentive system of the public employees with the performance indica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dical ethics in conducting experimental clinical trials in Jorda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ilding national capacity on Costing of health care services (refugees, contractin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7855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ture HHC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dopting certificate of need to control capital expenditure in health care services, &amp; limit the unnecessary expansion of thes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pporting and improving primary healthcare servic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nsuring equity in access to affordable  healthcare focusing on the poor, disabled, and other high risk catego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 algn="r">
              <a:lnSpc>
                <a:spcPct val="14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tting national clinical practice guidelin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 algn="just">
              <a:lnSpc>
                <a:spcPct val="1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accreditation, medical tourism, Medical liability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3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Mission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 draw up integrated health polici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 the participation with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ll health secto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thin the kingdom; so as to ensure the provision of distinguished healthcare services with a noble humanitarian goal within a sound health economy that strengthens Jordan’s leading position in the field of healthca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7848720" cy="885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in Causes of health care system inefficiencie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6840" y="1428480"/>
            <a:ext cx="8534520" cy="47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alth System Fragmentat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Radical change  was failed in 1988 (combing MOH and RM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rrational use of Medicine and Health Technolog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HHC strategy on Dug Rationalization 2012-20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4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Calibri"/>
              </a:rPr>
              <a:t>MeTA Project – JFDA ( availability, accessibility and affordability of drug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dequate financial and other incentives prevalent in the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65000" indent="-282240">
              <a:lnSpc>
                <a:spcPct val="140000"/>
              </a:lnSpc>
              <a:spcBef>
                <a:spcPts val="601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alibri"/>
              </a:rPr>
              <a:t>Absence of performance based incentives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 algn="r" rtl="1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olicy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the process of turning policy into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Are Policy Formulation and Implementation interdependent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</a:rPr>
              <a:t>If yes, should policy initiators consider them in combin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4200" y="1428840"/>
            <a:ext cx="878688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mited financial resources allocated for national health projects, health policy research, and health policy analysi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updated information and statistics needed for health policy formul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licy research and analys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monitoring and evaluation capacity in the area of health policies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Evaluation is crucial for policy improvement or policy termin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llenges Facing HHC and policy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4200" y="1571400"/>
            <a:ext cx="878688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igh turnover of Governments which affect imple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ek representation of private se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ning stakehold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ck of capacity on leadership which is necessary to resolve the conflict of interest regarding policy design and implement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w motivation or commitment due to different priorities, lack of incentives,  and limited resourc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can occur as a result of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exec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policy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d lu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ffective implementation will be viewed by policy-makers as bad execution or bad luc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-makers don’t admit  that the policy itself was defective or ba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failure or an implementation gap can occur when policy is imposed from the centre with no thought given to how it might be perceived or received at local leve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balance between the bottom up and top down approaches to policy and action is often necessar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icy could be modified or adapted in advance of its implementati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asons of Policy fail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should involve a process of interaction between organizations whose members may have different values, perspectives and priorit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policy is to be successfully implemented then those who have responsibility for its implementation should be involved in its desig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42960" y="2999880"/>
            <a:ext cx="8043840" cy="31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 rtl="1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Bookman Old Style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3" descr="شعار المجلس "/>
          <p:cNvPicPr/>
          <p:nvPr/>
        </p:nvPicPr>
        <p:blipFill>
          <a:blip r:embed="rId1"/>
          <a:stretch/>
        </p:blipFill>
        <p:spPr>
          <a:xfrm>
            <a:off x="3714840" y="928800"/>
            <a:ext cx="19047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465120"/>
            <a:ext cx="82296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High Health Council - HHC </a:t>
            </a: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2060"/>
                </a:solidFill>
                <a:latin typeface="Calibri"/>
              </a:rPr>
              <a:t>Law No. 9 for the year 1999</a:t>
            </a:r>
            <a:r>
              <a:rPr b="1" lang="en-US" sz="4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32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55960"/>
            <a:ext cx="8229600" cy="407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2060"/>
                </a:solidFill>
                <a:latin typeface="Calibri"/>
              </a:rPr>
              <a:t>To formulate the general policy of the health sector and to put forward the strategy to achieve it in order to organize and develop the health work in the Kingdom as a whol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mbership of HH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Chairperson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The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ime Minist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ice-chairperson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Minister of Healt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embe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 1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Fin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Planning and International Coope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Social Develop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inister of Lab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General Director of Royal Medical Serv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Private Hospital Associ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an of one of the medical faculties in the official Jordanian universitie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president of Jordan medical associatio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 head of one of the health associations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7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wo experts from the private sector </a:t>
            </a:r>
            <a:r>
              <a:rPr b="0" lang="en-US" sz="2200" spc="-1" strike="noStrike">
                <a:solidFill>
                  <a:srgbClr val="0070c0"/>
                </a:solidFill>
                <a:latin typeface="Calibri"/>
              </a:rPr>
              <a:t>appointed by the president every two years.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eriodic evaluation of health policies and introducing needed amendments after implementation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entifying the needs of the health sector and taking decisions regarding equitable distribution of health services across the kingd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70c0"/>
                </a:solidFill>
                <a:latin typeface="Calibri"/>
              </a:rPr>
              <a:t>( Jordan health map experience- equitable   distribution of public health centers and decreasing social influenc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571400"/>
            <a:ext cx="8534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rdinating work of health institutions in both public and private sectors to guarantee integration of their work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Regular meetings with liaison offic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the proposed laws, bylaws, and regulations of the HHC and the health sector and submitting the necessary recommendations. 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( Medical liability law. NHA data collection byla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HC Responsibilit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ing problems and obstacles facing the health sector and providing statistics and data for decision making pertaining to health system restructuring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HRH observatory :equitable distribution of health work force.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9996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Jordan National Health Accounts annual technical reports (6 roun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57120" y="274680"/>
            <a:ext cx="8429760" cy="582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HA reports in Jorda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000080"/>
          <a:ext cx="8329680" cy="5486400"/>
        </p:xfrm>
        <a:graphic>
          <a:graphicData uri="http://schemas.openxmlformats.org/drawingml/2006/table">
            <a:tbl>
              <a:tblPr/>
              <a:tblGrid>
                <a:gridCol w="1890720"/>
                <a:gridCol w="1827360"/>
                <a:gridCol w="3168360"/>
                <a:gridCol w="1443240"/>
              </a:tblGrid>
              <a:tr h="112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iscal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ssued / 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osted 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HA team Rank No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76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0-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OH (PHR 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plus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Proje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Fir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-20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HC (WHO T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3T19:08:21Z</dcterms:created>
  <dc:creator>User</dc:creator>
  <dc:description/>
  <dc:language>en-US</dc:language>
  <cp:lastModifiedBy>USER</cp:lastModifiedBy>
  <dcterms:modified xsi:type="dcterms:W3CDTF">2013-06-05T11:36:59Z</dcterms:modified>
  <cp:revision>366</cp:revision>
  <dc:subject/>
  <dc:title>Informed health policy</dc:title>
</cp:coreProperties>
</file>